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28041-A0C2-4875-B3CA-26A917F047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굴림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In 2009 CCSSO and the Stupski Foundation shared a vision about the state of public education and where it needed to 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Four Slide Bui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740F6-E47C-4DFF-AFE6-624BCAE11DE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Four Slide Bui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9AE1D-901C-4AA8-B262-BFA42720DA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GERRITA’S LA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C0432-1FAB-479A-9CEC-73BC3B4CF22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ko-KR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BB5AE-013F-408A-8191-47373DFD54D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ko-KR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BFC9E-39A0-486B-9459-AEA708F5BC9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FRIDAY: SESSION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NEL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2b: Nelson sets up Pan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5930B-8963-4DAF-B3B0-A298351AD71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FRIDAY: SESSION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NEL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2b: Nelson sets up Pan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A7CB7-9EA1-4637-B98C-1F65F4BB25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2a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953E5-B46D-47FF-A8D4-F162C311EA2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ko-KR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D018E-AD0C-4A20-9F88-40BBEED302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(DESCRIP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BB2C9-65E8-4D5D-929B-F7B01C93906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8D393-FFA4-4BE8-B484-955E7BF2B3C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(DESCRIP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639F6-117B-4B3F-A85A-826EEAD864D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(DESCRIP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5C4AF-C706-41D0-B951-DDD7EE5F76D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(DESCRIP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14082-10DE-491E-8527-D25F6D5D160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2a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EEB08-AA3C-4C0A-93FC-6DE7A6A5EDD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ko-KR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3AB67-9E8B-4AF7-B134-48C0BCE3E56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Saturday Session 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NEL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3d the ILN RDD rapid testing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2: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92535-09A7-4F67-ADFD-880D352DB01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Saturday Session 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NEL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3d the ILN RDD rapid testing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D6AF8-215E-489C-8DD0-EB261A4AA05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Saturday Session 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NEL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3d the ILN RDD rapid testing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3A454-6147-44A2-843F-1F253F7FC5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Saturday Session 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NEL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3d the ILN RDD rapid testing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CAF60-A974-4D0F-8E4D-677B254E90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Saturday Session 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NEL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3d the ILN RDD rapid testing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669DC-8089-4BE5-920E-CA53396A5E2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ko-KR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6E41E-C55F-46E7-88B1-CB33F80B932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ko-KR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EA9E4-755A-4E02-A692-AD2B98CF827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GERRITA THROUGH SLIDE 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1D1D7-ADD6-481A-BF7A-467B1BB05EF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Four Slide Bui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835DF-4F97-426B-8AD1-E69A0D21970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Four Slide Bui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6B298-DF1E-4AA6-8169-45EBC25A8AA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5777-5ED1-4007-AD10-068BF38E1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B678-AF9E-4659-B0ED-520D3ADEE0B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A15EE-C5EA-45D1-8D18-43DB9BC4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0929F-61E5-41EE-9ADD-B2174860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4CF9F-C4B2-4F5C-AFB5-CD92C86C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C0B5FE-617B-4E9A-A396-49DD95A7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EF21C-2D27-40E9-909F-A1201380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8F0B7-31AB-4D0C-8A26-87DF6BB5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E1CBB-997F-4A3C-9843-B9C16E75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C85D7-784F-40BA-B5CF-B2C93357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BD58B-464A-47E1-BD78-71C07DB7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29727-F6D2-4964-9EBA-76981FF9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8C7E-9FE4-4B8C-855D-C226A43B5E2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B76C6-8246-4190-A145-EFCD8328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E9882B-28B0-48E3-8821-3E1139BD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157FC-FA56-47F0-A64D-B5818FD5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10111-452E-4FF7-9A05-B5195568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5379C-CC9D-48BE-A9BE-6B291EEA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EB506-A8CA-43E8-8EB8-F97FEA64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C833EF-6F14-42F4-BBB6-C181EF23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B2A978-FF5D-4216-9A08-A845EEFA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58806-8C5B-46D2-A46F-8963D09E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3F960-73FB-470F-8621-AF94FC5C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DFE6-A037-4B34-815D-45CADA9FDBD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6C515-27B4-4A47-8717-4E9067ED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C07105-DEFE-49F5-A4AF-955C8732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EAC552-D623-487B-A37D-E93D8FD7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C7C345-EBE2-4D70-A964-30736C85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D83749-FD4C-467A-A9CA-91C2813E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54B900-BAF6-47DD-8CE8-79AC3B98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533432-0112-4899-8381-14394693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842DA7-7D71-494D-966F-18513CC2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F59D82-FA14-42F0-8EC3-F41430CF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D847E6-6703-42D2-99CF-8CD7EB2B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796CB-EC2B-4516-B600-9E2D1BAB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515D2D-B083-481C-8DCE-64077BBD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526937-6523-44CE-AE18-99B105D2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115D9D-D1D8-4532-B903-E9280E62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90F63-1896-40F3-B4F1-A2A4758B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14521-9561-4826-AAA1-21D3A1A2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C7A824-5D82-4BF2-9A79-8622F7DB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A5EBC-F048-4D2B-B070-EE538604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538AB-6D33-4C55-AD20-5E6369B2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F6A11-4820-4D7D-96AD-98C0258B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5A4ED-9341-46C1-848B-3609F613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288AF-4347-493E-AC44-D68AFC8C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5BAD60-448A-4D86-ADDE-22C6F072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38E282-947E-4035-B02D-96ABB8FA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3E2BF-F500-4342-BD72-CBBC4783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14ABCA-70B2-454F-91B0-18C31150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7AC2EF-E55F-4F27-8EAB-B72F0B1C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5CB90-7D36-4CB7-B47A-C555C634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3DC7C-47A8-429A-ABE7-B4DFB223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92F2C-8550-4076-8EB2-4D211247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93745-8B9E-4D04-AF39-D7CE93D8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63ED9-130F-42C7-AB6F-0FEF5E6A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7487-84B3-43E6-AD9B-6BF3341AF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1EF76-6B18-47DF-9056-D129058B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72541-F4C5-4E3F-916B-87198373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391DA-4253-49D1-9253-F64E204C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4D775-CA0A-497F-9FD1-59CF5A44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E5306-502C-4C9E-A880-4FCBB941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8988EF-65C0-4DB4-A5B7-8DC6D69C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972EAF-BBCD-4D88-A7FD-E13831A8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C7CB98-D9AF-47F3-9157-EAAD85BB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0BB8B4-EA09-4B77-89AE-AC7283E4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058F61-3FD5-451A-AB2D-AB994D5E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B9A9-162D-4F68-9057-E4F7F04455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AE6EB6-BAA0-483E-B283-220FEF04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BE96A3-313E-4B56-8E0E-4671607A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92F47-35F6-481A-95EF-880B5764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5FF75A-FCE0-4144-A790-F8A881B7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B6B300-D0BF-4A5F-8224-D019E9CD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220B46-6300-4BF9-8D6C-95AD5147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6E5DC3-56D3-486A-81A5-D7AC2E30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65B5D2-88B1-4F5B-953F-56038C88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CE0C70-B38B-4B4E-976B-876C3BD9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85286C-7C5F-4A01-8A09-CCAB3205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07DA-15DB-46AB-A14C-42DDDB2AD1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1AB5F9-0C8A-425B-B173-28F72006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EB4FD-68F1-4E28-A66F-973D46CC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EBDA87-4090-48DD-B031-08AD9452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A13F98-40A4-452D-B2D2-0CF7A34D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E6B45A-85FF-4D97-ADF5-5AEC9BFD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504906-FC6F-4004-BCF1-79E7C0F3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D5B643-0BA5-43EE-A3E5-6C0BF487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198B4-1C08-411A-AF3E-97B77CFC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69B093-936D-4355-8205-61514F00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C13463-FC23-4930-91FF-1CC10DB7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306C-B55D-4E8B-9FFB-85CCBFA6F76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486DFE-6B37-4B49-81C3-64319874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CAEA15-284A-4CC5-89D4-411DD02E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43A3AE-D251-4FFA-8AAF-68A13EBB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ED0E02-2812-4A3E-AE58-7074A07C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130764-90C7-4655-8E5E-2A7C7B78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BBF739-249B-4386-9B73-8D4175E5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189077-9AC1-41BF-AD7B-2C359CA5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EAA3FB-FE46-4329-8951-F50CCFA2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9D7B67-9FD4-4C3C-85E2-1FD97E76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47549D-B4F3-4C1C-A3D1-4CB8D29E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2E52-05BC-4091-9D35-87691FD5EC7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B8F895-35E6-407E-8BA4-4C4016F5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F5BD42-CB1D-46B7-8865-CC26E898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6EBF1C-D0DC-4B2C-AA5B-E00CB043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7A3198-8D60-4BA5-A552-2F57BBE6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156E09-8F8B-424C-B310-AAD9D0F2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87D164-DC80-4133-974E-B9F7BC70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38CF46-D4BE-4FCB-AB18-AF0DFC08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7A4AD3-7D53-4AA6-9BC9-C7492F18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FFBFD3-D1EB-4CA6-8A36-9B396614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B8613A-C45B-49DD-B009-5B4375B3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70C0-8C3B-4E88-A981-490242C60AC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98DC3B-C252-4152-B29D-5944256B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F05ECC-ADB9-49AC-844C-8ED9252A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A7CED3-819C-4C56-9380-A0B41A32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4234F6-7EFA-4BBC-85A0-AB961A21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A795D5-9EEA-4D50-AE49-10766DA4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490D08-33F5-47A9-ADA8-DEB29432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BF1EBF-A63E-4CB8-A821-B714DCF2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DBDD76-1F53-4E50-A769-388D91A0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E1B750-89AF-48BC-B770-39A8C998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C26E76-F608-4657-8312-458E2222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AE56-BBB1-433B-B938-8B8B06E533C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0312A7-3408-438F-91BF-C4EA10E7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3EB4C8-6EBE-472E-8314-C549ACD7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A11AFD-7474-4CB7-8A53-5804350A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2A3A52-2835-4C02-861E-FD2D7D5B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ED7AEA-25FA-4B25-91E1-0BF92E4C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4E5B72-D117-4DDD-8080-5BD0653C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477072-5789-42A6-99FC-267421D8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C20BF6-1FF1-4873-B437-88E73F80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2D3007-70F3-494B-8AAF-C3C12B1B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1263F0-E098-4EEC-91DE-5368BED3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1430-269A-494E-A721-52E8D2FECE7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0F9513-8605-4316-922D-D9B97AB0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E575C7-D9A0-4B8B-AC66-EA49A3B9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69E688-36E9-4D7B-A242-280EC279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7377CB-31C9-4668-A8CC-CD757E27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365112-8964-4CE1-AC18-776346E0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71C62F-C97F-40B6-82EB-14409610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DB6F23-BF98-4AAE-8104-7D1EBCB1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2FD91-68E0-40F2-AB21-2FCAF111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F9D0D-D2A6-4400-8BAA-FDA7A42E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869DE-5368-4FE4-9778-E8D8B4E1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12F8D-9551-468E-8115-E6C163674E3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1EDA3-181B-4CDD-95AB-FC13DAC2C3F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94932-3E6F-484F-8F5A-06C26F09CFC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B8F5A-8605-4A88-A509-4B87A3AA0E1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1E572-2A39-4578-8ACE-C3D54005A3C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C3588-FEC8-4743-824B-067F11B1862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AED09-D715-458D-9665-50A9FC53D2A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FF7D7-2BDC-4BEF-8FE4-DD10A32C7CA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248DC-B7B1-4230-80B7-48C181A57D5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E7BD6-F45F-4FEF-9E72-C8035CA3082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0EB09-0600-4822-81C1-2ABB4C00F0A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9EE8B-3EAA-443F-A86C-34070FA69D3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8"/>
          <p:cNvGrpSpPr/>
          <p:nvPr/>
        </p:nvGrpSpPr>
        <p:grpSpPr>
          <a:xfrm>
            <a:off x="698400" y="3736800"/>
            <a:ext cx="3694320" cy="1911600"/>
            <a:chOff x="698400" y="3736800"/>
            <a:chExt cx="3694320" cy="1911600"/>
          </a:xfrm>
        </p:grpSpPr>
        <p:sp>
          <p:nvSpPr>
            <p:cNvPr id="498" name="Rounded Rectangle 4"/>
            <p:cNvSpPr/>
            <p:nvPr/>
          </p:nvSpPr>
          <p:spPr>
            <a:xfrm>
              <a:off x="698400" y="3736800"/>
              <a:ext cx="3634200" cy="1911600"/>
            </a:xfrm>
            <a:prstGeom prst="roundRect">
              <a:avLst>
                <a:gd name="adj" fmla="val 10144"/>
              </a:avLst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9" name="Picture 12" descr="Picture 2.png"/>
            <p:cNvPicPr/>
            <p:nvPr/>
          </p:nvPicPr>
          <p:blipFill>
            <a:blip r:embed="rId1"/>
            <a:stretch/>
          </p:blipFill>
          <p:spPr>
            <a:xfrm>
              <a:off x="757080" y="3736800"/>
              <a:ext cx="3635640" cy="187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Rounded Rectangle 10"/>
          <p:cNvSpPr/>
          <p:nvPr/>
        </p:nvSpPr>
        <p:spPr>
          <a:xfrm>
            <a:off x="4738680" y="3700440"/>
            <a:ext cx="3586320" cy="1911240"/>
          </a:xfrm>
          <a:prstGeom prst="roundRect">
            <a:avLst>
              <a:gd name="adj" fmla="val 10144"/>
            </a:avLst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8" descr="stupski_no_book_logo1.png"/>
          <p:cNvPicPr/>
          <p:nvPr/>
        </p:nvPicPr>
        <p:blipFill>
          <a:blip r:embed="rId2"/>
          <a:stretch/>
        </p:blipFill>
        <p:spPr>
          <a:xfrm>
            <a:off x="5049720" y="4183200"/>
            <a:ext cx="3086280" cy="10285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2" descr="PNxGL_Logo_white.jpg"/>
          <p:cNvPicPr/>
          <p:nvPr/>
        </p:nvPicPr>
        <p:blipFill>
          <a:blip r:embed="rId3"/>
          <a:stretch/>
        </p:blipFill>
        <p:spPr>
          <a:xfrm>
            <a:off x="1608120" y="963720"/>
            <a:ext cx="6053040" cy="195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9" descr="Sigmund_Curve_4.ai"/>
          <p:cNvPicPr/>
          <p:nvPr/>
        </p:nvPicPr>
        <p:blipFill>
          <a:blip r:embed="rId1"/>
          <a:stretch/>
        </p:blipFill>
        <p:spPr>
          <a:xfrm rot="21300000">
            <a:off x="-299520" y="6480"/>
            <a:ext cx="959328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Box 11"/>
          <p:cNvSpPr/>
          <p:nvPr/>
        </p:nvSpPr>
        <p:spPr>
          <a:xfrm>
            <a:off x="4572000" y="4848120"/>
            <a:ext cx="311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Devel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Comm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Of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굴림"/>
              </a:rPr>
              <a:t>Nur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0" descr="Sigmund_Curve_5.ai"/>
          <p:cNvPicPr/>
          <p:nvPr/>
        </p:nvPicPr>
        <p:blipFill>
          <a:blip r:embed="rId1"/>
          <a:stretch/>
        </p:blipFill>
        <p:spPr>
          <a:xfrm rot="21300000">
            <a:off x="-293400" y="6480"/>
            <a:ext cx="959328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TextBox 11"/>
          <p:cNvSpPr/>
          <p:nvPr/>
        </p:nvSpPr>
        <p:spPr>
          <a:xfrm>
            <a:off x="6299280" y="4740120"/>
            <a:ext cx="263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Foster System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Influ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굴림"/>
              </a:rPr>
              <a:t>Illumina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2531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We must cultivate new experiences of next generation learn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4146480" y="1941480"/>
            <a:ext cx="4519800" cy="4653000"/>
          </a:xfrm>
          <a:prstGeom prst="rect">
            <a:avLst/>
          </a:prstGeom>
          <a:ln w="0">
            <a:noFill/>
          </a:ln>
        </p:spPr>
      </p:pic>
      <p:sp>
        <p:nvSpPr>
          <p:cNvPr id="550" name="Title 1"/>
          <p:cNvSpPr/>
          <p:nvPr/>
        </p:nvSpPr>
        <p:spPr>
          <a:xfrm>
            <a:off x="320760" y="3411360"/>
            <a:ext cx="467208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c8a41"/>
                </a:solidFill>
                <a:latin typeface="Arial"/>
                <a:ea typeface="굴림"/>
              </a:rPr>
              <a:t>Personalize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c8a41"/>
                </a:solidFill>
                <a:latin typeface="Arial"/>
                <a:ea typeface="굴림"/>
              </a:rPr>
              <a:t>World Class Learning/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c8a41"/>
                </a:solidFill>
                <a:latin typeface="Arial"/>
                <a:ea typeface="굴림"/>
              </a:rPr>
              <a:t>Authentic Student 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c8a41"/>
                </a:solidFill>
                <a:latin typeface="Arial"/>
                <a:ea typeface="굴림"/>
              </a:rPr>
              <a:t>Performance-based Learning Comprehensive System of Sup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c8a41"/>
                </a:solidFill>
                <a:latin typeface="Arial"/>
                <a:ea typeface="굴림"/>
              </a:rPr>
              <a:t>Anytime, Anywhere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25312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To do that we must change how the system supports learn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4098960" y="1666800"/>
            <a:ext cx="4519440" cy="4653000"/>
          </a:xfrm>
          <a:prstGeom prst="rect">
            <a:avLst/>
          </a:prstGeom>
          <a:ln w="0">
            <a:noFill/>
          </a:ln>
        </p:spPr>
      </p:pic>
      <p:sp>
        <p:nvSpPr>
          <p:cNvPr id="553" name="Title 1"/>
          <p:cNvSpPr/>
          <p:nvPr/>
        </p:nvSpPr>
        <p:spPr>
          <a:xfrm>
            <a:off x="428760" y="3597120"/>
            <a:ext cx="232704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4f7b"/>
                </a:solidFill>
                <a:latin typeface="Arial"/>
                <a:ea typeface="굴림"/>
              </a:rPr>
              <a:t>Huma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4f7b"/>
                </a:solidFill>
                <a:latin typeface="Arial"/>
                <a:ea typeface="굴림"/>
              </a:rPr>
              <a:t>Time/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4f7b"/>
                </a:solidFill>
                <a:latin typeface="Arial"/>
                <a:ea typeface="굴림"/>
              </a:rPr>
              <a:t>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4f7b"/>
                </a:solidFill>
                <a:latin typeface="Arial"/>
                <a:ea typeface="굴림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4f7b"/>
                </a:solidFill>
                <a:latin typeface="Arial"/>
                <a:ea typeface="굴림"/>
              </a:rPr>
              <a:t>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4f7b"/>
                </a:solidFill>
                <a:latin typeface="Arial"/>
                <a:ea typeface="굴림"/>
              </a:rPr>
              <a:t>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4f7b"/>
                </a:solidFill>
                <a:latin typeface="Arial"/>
                <a:ea typeface="굴림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itle 1"/>
          <p:cNvSpPr/>
          <p:nvPr/>
        </p:nvSpPr>
        <p:spPr>
          <a:xfrm>
            <a:off x="2424240" y="3587760"/>
            <a:ext cx="306360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c8a41"/>
                </a:solidFill>
                <a:latin typeface="Arial"/>
                <a:ea typeface="굴림"/>
              </a:rPr>
              <a:t>Personalized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c8a41"/>
                </a:solidFill>
                <a:latin typeface="Arial"/>
                <a:ea typeface="굴림"/>
              </a:rPr>
              <a:t>World Class Learning/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c8a41"/>
                </a:solidFill>
                <a:latin typeface="Arial"/>
                <a:ea typeface="굴림"/>
              </a:rPr>
              <a:t>Authentic Student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c8a41"/>
                </a:solidFill>
                <a:latin typeface="Arial"/>
                <a:ea typeface="굴림"/>
              </a:rPr>
              <a:t>Performance-based Learning </a:t>
            </a:r>
            <a:br>
              <a:rPr sz="1200"/>
            </a:br>
            <a:r>
              <a:rPr b="0" lang="en-US" sz="1200" spc="-1" strike="noStrike">
                <a:solidFill>
                  <a:srgbClr val="ec8a41"/>
                </a:solidFill>
                <a:latin typeface="Arial"/>
                <a:ea typeface="굴림"/>
              </a:rPr>
              <a:t>Comprehensive System of Sup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c8a41"/>
                </a:solidFill>
                <a:latin typeface="Arial"/>
                <a:ea typeface="굴림"/>
              </a:rPr>
              <a:t>Anytime, Anywhere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01680" y="38736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Outcomes of the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Content Placeholder 2"/>
          <p:cNvSpPr/>
          <p:nvPr/>
        </p:nvSpPr>
        <p:spPr>
          <a:xfrm>
            <a:off x="1300320" y="5537160"/>
            <a:ext cx="18637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of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Content Placeholder 2"/>
          <p:cNvSpPr/>
          <p:nvPr/>
        </p:nvSpPr>
        <p:spPr>
          <a:xfrm>
            <a:off x="3789360" y="6191280"/>
            <a:ext cx="17049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Content Placeholder 2"/>
          <p:cNvSpPr/>
          <p:nvPr/>
        </p:nvSpPr>
        <p:spPr>
          <a:xfrm>
            <a:off x="6012000" y="5586480"/>
            <a:ext cx="1706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181160" y="1300320"/>
            <a:ext cx="6383160" cy="48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rapezoid 6"/>
          <p:cNvSpPr/>
          <p:nvPr/>
        </p:nvSpPr>
        <p:spPr>
          <a:xfrm rot="15925800">
            <a:off x="1566000" y="-2254680"/>
            <a:ext cx="6850080" cy="8105760"/>
          </a:xfrm>
          <a:custGeom>
            <a:avLst/>
            <a:gdLst/>
            <a:ahLst/>
            <a:rect l="l" t="t" r="r" b="b"/>
            <a:pathLst>
              <a:path w="6850063" h="8105775">
                <a:moveTo>
                  <a:pt x="0" y="8105775"/>
                </a:moveTo>
                <a:lnTo>
                  <a:pt x="2993341" y="0"/>
                </a:lnTo>
                <a:lnTo>
                  <a:pt x="3856722" y="0"/>
                </a:lnTo>
                <a:lnTo>
                  <a:pt x="6850063" y="8105775"/>
                </a:lnTo>
                <a:lnTo>
                  <a:pt x="0" y="81057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rapezoid 4"/>
          <p:cNvSpPr/>
          <p:nvPr/>
        </p:nvSpPr>
        <p:spPr>
          <a:xfrm rot="18345600">
            <a:off x="1495080" y="-561960"/>
            <a:ext cx="6850080" cy="9799920"/>
          </a:xfrm>
          <a:custGeom>
            <a:avLst/>
            <a:gdLst/>
            <a:ahLst/>
            <a:rect l="l" t="t" r="r" b="b"/>
            <a:pathLst>
              <a:path w="6850062" h="9799637">
                <a:moveTo>
                  <a:pt x="0" y="9799637"/>
                </a:moveTo>
                <a:lnTo>
                  <a:pt x="2993340" y="0"/>
                </a:lnTo>
                <a:lnTo>
                  <a:pt x="3856722" y="0"/>
                </a:lnTo>
                <a:lnTo>
                  <a:pt x="6850062" y="9799637"/>
                </a:lnTo>
                <a:lnTo>
                  <a:pt x="0" y="9799637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3" descr=""/>
          <p:cNvPicPr/>
          <p:nvPr/>
        </p:nvPicPr>
        <p:blipFill>
          <a:blip r:embed="rId1"/>
          <a:stretch/>
        </p:blipFill>
        <p:spPr>
          <a:xfrm>
            <a:off x="2462040" y="347760"/>
            <a:ext cx="6197760" cy="61308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"/>
          <p:cNvPicPr/>
          <p:nvPr/>
        </p:nvPicPr>
        <p:blipFill>
          <a:blip r:embed="rId2"/>
          <a:stretch/>
        </p:blipFill>
        <p:spPr>
          <a:xfrm>
            <a:off x="484200" y="347760"/>
            <a:ext cx="1789200" cy="1842840"/>
          </a:xfrm>
          <a:prstGeom prst="rect">
            <a:avLst/>
          </a:prstGeom>
          <a:ln w="0">
            <a:noFill/>
          </a:ln>
        </p:spPr>
      </p:pic>
      <p:sp>
        <p:nvSpPr>
          <p:cNvPr id="564" name="Oval 7"/>
          <p:cNvSpPr/>
          <p:nvPr/>
        </p:nvSpPr>
        <p:spPr>
          <a:xfrm>
            <a:off x="4384800" y="2131920"/>
            <a:ext cx="236376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ight Arrow 8"/>
          <p:cNvSpPr/>
          <p:nvPr/>
        </p:nvSpPr>
        <p:spPr>
          <a:xfrm rot="6902400">
            <a:off x="5753520" y="1329120"/>
            <a:ext cx="1359000" cy="376200"/>
          </a:xfrm>
          <a:prstGeom prst="rightArrow">
            <a:avLst>
              <a:gd name="adj1" fmla="val 56713"/>
              <a:gd name="adj2" fmla="val 31325"/>
            </a:avLst>
          </a:prstGeom>
          <a:solidFill>
            <a:srgbClr val="5c6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ight Arrow 9"/>
          <p:cNvSpPr/>
          <p:nvPr/>
        </p:nvSpPr>
        <p:spPr>
          <a:xfrm rot="777000">
            <a:off x="3341520" y="2733480"/>
            <a:ext cx="938520" cy="377640"/>
          </a:xfrm>
          <a:prstGeom prst="rightArrow">
            <a:avLst>
              <a:gd name="adj1" fmla="val 56713"/>
              <a:gd name="adj2" fmla="val 31353"/>
            </a:avLst>
          </a:prstGeom>
          <a:solidFill>
            <a:srgbClr val="5c6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ight Arrow 10"/>
          <p:cNvSpPr/>
          <p:nvPr/>
        </p:nvSpPr>
        <p:spPr>
          <a:xfrm rot="16200000">
            <a:off x="4874400" y="5124960"/>
            <a:ext cx="1359000" cy="376200"/>
          </a:xfrm>
          <a:prstGeom prst="rightArrow">
            <a:avLst>
              <a:gd name="adj1" fmla="val 56713"/>
              <a:gd name="adj2" fmla="val 31325"/>
            </a:avLst>
          </a:prstGeom>
          <a:solidFill>
            <a:srgbClr val="5c6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68200" y="4222440"/>
            <a:ext cx="5253120" cy="25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We will start i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places that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the most impa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2"/>
          <p:cNvSpPr/>
          <p:nvPr/>
        </p:nvSpPr>
        <p:spPr>
          <a:xfrm rot="18651000">
            <a:off x="2406600" y="2491560"/>
            <a:ext cx="13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3"/>
          <p:cNvSpPr/>
          <p:nvPr/>
        </p:nvSpPr>
        <p:spPr>
          <a:xfrm rot="20313000">
            <a:off x="3877560" y="698040"/>
            <a:ext cx="13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4"/>
          <p:cNvSpPr/>
          <p:nvPr/>
        </p:nvSpPr>
        <p:spPr>
          <a:xfrm rot="1879800">
            <a:off x="6361560" y="701640"/>
            <a:ext cx="81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Human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5"/>
          <p:cNvSpPr/>
          <p:nvPr/>
        </p:nvSpPr>
        <p:spPr>
          <a:xfrm rot="2880000">
            <a:off x="7585560" y="2725200"/>
            <a:ext cx="13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6"/>
          <p:cNvSpPr/>
          <p:nvPr/>
        </p:nvSpPr>
        <p:spPr>
          <a:xfrm rot="18651000">
            <a:off x="7131240" y="4630320"/>
            <a:ext cx="13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7"/>
          <p:cNvSpPr/>
          <p:nvPr/>
        </p:nvSpPr>
        <p:spPr>
          <a:xfrm rot="537000">
            <a:off x="5013000" y="5837400"/>
            <a:ext cx="134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굴림"/>
              </a:rPr>
              <a:t>Assess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8"/>
          <p:cNvSpPr/>
          <p:nvPr/>
        </p:nvSpPr>
        <p:spPr>
          <a:xfrm rot="2113800">
            <a:off x="2965320" y="4927680"/>
            <a:ext cx="13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ime /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rapezoid 6"/>
          <p:cNvSpPr/>
          <p:nvPr/>
        </p:nvSpPr>
        <p:spPr>
          <a:xfrm rot="15925800">
            <a:off x="1836720" y="-2255400"/>
            <a:ext cx="6850080" cy="8107200"/>
          </a:xfrm>
          <a:custGeom>
            <a:avLst/>
            <a:gdLst/>
            <a:ahLst/>
            <a:rect l="l" t="t" r="r" b="b"/>
            <a:pathLst>
              <a:path w="6850063" h="8107362">
                <a:moveTo>
                  <a:pt x="0" y="8107362"/>
                </a:moveTo>
                <a:lnTo>
                  <a:pt x="2993341" y="0"/>
                </a:lnTo>
                <a:lnTo>
                  <a:pt x="3856722" y="0"/>
                </a:lnTo>
                <a:lnTo>
                  <a:pt x="6850063" y="8107362"/>
                </a:lnTo>
                <a:lnTo>
                  <a:pt x="0" y="810736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rapezoid 4"/>
          <p:cNvSpPr/>
          <p:nvPr/>
        </p:nvSpPr>
        <p:spPr>
          <a:xfrm rot="18345600">
            <a:off x="1495080" y="-561960"/>
            <a:ext cx="6850080" cy="9799920"/>
          </a:xfrm>
          <a:custGeom>
            <a:avLst/>
            <a:gdLst/>
            <a:ahLst/>
            <a:rect l="l" t="t" r="r" b="b"/>
            <a:pathLst>
              <a:path w="6850062" h="9799637">
                <a:moveTo>
                  <a:pt x="0" y="9799637"/>
                </a:moveTo>
                <a:lnTo>
                  <a:pt x="2993340" y="0"/>
                </a:lnTo>
                <a:lnTo>
                  <a:pt x="3856722" y="0"/>
                </a:lnTo>
                <a:lnTo>
                  <a:pt x="6850062" y="9799637"/>
                </a:lnTo>
                <a:lnTo>
                  <a:pt x="0" y="9799637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2462040" y="347760"/>
            <a:ext cx="6197760" cy="61308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" descr=""/>
          <p:cNvPicPr/>
          <p:nvPr/>
        </p:nvPicPr>
        <p:blipFill>
          <a:blip r:embed="rId2"/>
          <a:stretch/>
        </p:blipFill>
        <p:spPr>
          <a:xfrm>
            <a:off x="484200" y="347760"/>
            <a:ext cx="1789200" cy="184284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18960" y="4242960"/>
            <a:ext cx="5251680" cy="25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Thes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are critica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Entry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ight Arrow 9"/>
          <p:cNvSpPr/>
          <p:nvPr/>
        </p:nvSpPr>
        <p:spPr>
          <a:xfrm rot="14709000">
            <a:off x="4383720" y="1578240"/>
            <a:ext cx="863280" cy="376200"/>
          </a:xfrm>
          <a:prstGeom prst="rightArrow">
            <a:avLst>
              <a:gd name="adj1" fmla="val 56713"/>
              <a:gd name="adj2" fmla="val 31319"/>
            </a:avLst>
          </a:prstGeom>
          <a:solidFill>
            <a:srgbClr val="5c6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ight Arrow 11"/>
          <p:cNvSpPr/>
          <p:nvPr/>
        </p:nvSpPr>
        <p:spPr>
          <a:xfrm rot="8503800">
            <a:off x="3819600" y="4231800"/>
            <a:ext cx="860400" cy="376200"/>
          </a:xfrm>
          <a:prstGeom prst="rightArrow">
            <a:avLst>
              <a:gd name="adj1" fmla="val 56713"/>
              <a:gd name="adj2" fmla="val 31331"/>
            </a:avLst>
          </a:prstGeom>
          <a:solidFill>
            <a:srgbClr val="5c6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ight Arrow 12"/>
          <p:cNvSpPr/>
          <p:nvPr/>
        </p:nvSpPr>
        <p:spPr>
          <a:xfrm rot="2358000">
            <a:off x="6473880" y="4198680"/>
            <a:ext cx="860400" cy="376200"/>
          </a:xfrm>
          <a:prstGeom prst="rightArrow">
            <a:avLst>
              <a:gd name="adj1" fmla="val 56713"/>
              <a:gd name="adj2" fmla="val 31331"/>
            </a:avLst>
          </a:prstGeom>
          <a:solidFill>
            <a:srgbClr val="5c6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ight Arrow 13"/>
          <p:cNvSpPr/>
          <p:nvPr/>
        </p:nvSpPr>
        <p:spPr>
          <a:xfrm rot="20700000">
            <a:off x="6791400" y="2759040"/>
            <a:ext cx="861840" cy="376200"/>
          </a:xfrm>
          <a:prstGeom prst="rightArrow">
            <a:avLst>
              <a:gd name="adj1" fmla="val 56713"/>
              <a:gd name="adj2" fmla="val 31320"/>
            </a:avLst>
          </a:prstGeom>
          <a:solidFill>
            <a:srgbClr val="5c6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0"/>
          <p:cNvSpPr/>
          <p:nvPr/>
        </p:nvSpPr>
        <p:spPr>
          <a:xfrm rot="18651000">
            <a:off x="2406600" y="2491560"/>
            <a:ext cx="13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4"/>
          <p:cNvSpPr/>
          <p:nvPr/>
        </p:nvSpPr>
        <p:spPr>
          <a:xfrm rot="20313000">
            <a:off x="3877560" y="698040"/>
            <a:ext cx="13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5"/>
          <p:cNvSpPr/>
          <p:nvPr/>
        </p:nvSpPr>
        <p:spPr>
          <a:xfrm rot="1879800">
            <a:off x="6361560" y="701640"/>
            <a:ext cx="81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Human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6"/>
          <p:cNvSpPr/>
          <p:nvPr/>
        </p:nvSpPr>
        <p:spPr>
          <a:xfrm rot="2880000">
            <a:off x="7585560" y="2725200"/>
            <a:ext cx="13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7"/>
          <p:cNvSpPr/>
          <p:nvPr/>
        </p:nvSpPr>
        <p:spPr>
          <a:xfrm rot="18651000">
            <a:off x="7131240" y="4630320"/>
            <a:ext cx="13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18"/>
          <p:cNvSpPr/>
          <p:nvPr/>
        </p:nvSpPr>
        <p:spPr>
          <a:xfrm rot="537000">
            <a:off x="5013000" y="5837400"/>
            <a:ext cx="134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굴림"/>
              </a:rPr>
              <a:t>Assess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9"/>
          <p:cNvSpPr/>
          <p:nvPr/>
        </p:nvSpPr>
        <p:spPr>
          <a:xfrm rot="2113800">
            <a:off x="2965320" y="4927680"/>
            <a:ext cx="13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ime /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20"/>
          <p:cNvSpPr/>
          <p:nvPr/>
        </p:nvSpPr>
        <p:spPr>
          <a:xfrm>
            <a:off x="4888080" y="2513160"/>
            <a:ext cx="1334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굴림"/>
              </a:rPr>
              <a:t>NxG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굴림"/>
              </a:rPr>
              <a:t>Diagnost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21"/>
          <p:cNvSpPr/>
          <p:nvPr/>
        </p:nvSpPr>
        <p:spPr>
          <a:xfrm>
            <a:off x="5389560" y="3346560"/>
            <a:ext cx="1335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굴림"/>
              </a:rPr>
              <a:t>Educ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굴림"/>
              </a:rPr>
              <a:t>Capac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22"/>
          <p:cNvSpPr/>
          <p:nvPr/>
        </p:nvSpPr>
        <p:spPr>
          <a:xfrm>
            <a:off x="4390920" y="3346560"/>
            <a:ext cx="1335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굴림"/>
              </a:rPr>
              <a:t>NxG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굴림"/>
              </a:rPr>
              <a:t>Assess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1639800" y="396720"/>
            <a:ext cx="5713560" cy="5753160"/>
          </a:xfrm>
          <a:prstGeom prst="rect">
            <a:avLst/>
          </a:prstGeom>
          <a:ln w="0">
            <a:noFill/>
          </a:ln>
        </p:spPr>
      </p:pic>
      <p:sp>
        <p:nvSpPr>
          <p:cNvPr id="597" name="TextBox 13"/>
          <p:cNvSpPr/>
          <p:nvPr/>
        </p:nvSpPr>
        <p:spPr>
          <a:xfrm>
            <a:off x="1639800" y="4040280"/>
            <a:ext cx="28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NxGL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ASSESS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14"/>
          <p:cNvSpPr/>
          <p:nvPr/>
        </p:nvSpPr>
        <p:spPr>
          <a:xfrm>
            <a:off x="3111480" y="1565280"/>
            <a:ext cx="283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NxG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DIAGNOST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5"/>
          <p:cNvSpPr/>
          <p:nvPr/>
        </p:nvSpPr>
        <p:spPr>
          <a:xfrm>
            <a:off x="4619520" y="4040280"/>
            <a:ext cx="273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EDUCA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rapezoid 25"/>
          <p:cNvSpPr/>
          <p:nvPr/>
        </p:nvSpPr>
        <p:spPr>
          <a:xfrm rot="15925800">
            <a:off x="2255040" y="-1777320"/>
            <a:ext cx="6848280" cy="8107200"/>
          </a:xfrm>
          <a:custGeom>
            <a:avLst/>
            <a:gdLst/>
            <a:ahLst/>
            <a:rect l="l" t="t" r="r" b="b"/>
            <a:pathLst>
              <a:path w="6848476" h="8107363">
                <a:moveTo>
                  <a:pt x="0" y="8107363"/>
                </a:moveTo>
                <a:lnTo>
                  <a:pt x="2992647" y="0"/>
                </a:lnTo>
                <a:lnTo>
                  <a:pt x="3855829" y="0"/>
                </a:lnTo>
                <a:lnTo>
                  <a:pt x="6848476" y="8107363"/>
                </a:lnTo>
                <a:lnTo>
                  <a:pt x="0" y="8107363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rapezoid 26"/>
          <p:cNvSpPr/>
          <p:nvPr/>
        </p:nvSpPr>
        <p:spPr>
          <a:xfrm rot="18345600">
            <a:off x="1907280" y="189360"/>
            <a:ext cx="6850080" cy="9642600"/>
          </a:xfrm>
          <a:custGeom>
            <a:avLst/>
            <a:gdLst/>
            <a:ahLst/>
            <a:rect l="l" t="t" r="r" b="b"/>
            <a:pathLst>
              <a:path w="6850062" h="9642475">
                <a:moveTo>
                  <a:pt x="0" y="9642475"/>
                </a:moveTo>
                <a:lnTo>
                  <a:pt x="2993340" y="0"/>
                </a:lnTo>
                <a:lnTo>
                  <a:pt x="3856722" y="0"/>
                </a:lnTo>
                <a:lnTo>
                  <a:pt x="6850062" y="9642475"/>
                </a:lnTo>
                <a:lnTo>
                  <a:pt x="0" y="9642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90600" y="1392120"/>
            <a:ext cx="2546280" cy="2563920"/>
          </a:xfrm>
          <a:prstGeom prst="rect">
            <a:avLst/>
          </a:prstGeom>
          <a:ln w="0">
            <a:noFill/>
          </a:ln>
        </p:spPr>
      </p:pic>
      <p:sp>
        <p:nvSpPr>
          <p:cNvPr id="603" name="Hexagon 23"/>
          <p:cNvSpPr/>
          <p:nvPr/>
        </p:nvSpPr>
        <p:spPr>
          <a:xfrm rot="19767600">
            <a:off x="284040" y="2610000"/>
            <a:ext cx="1440000" cy="1249200"/>
          </a:xfrm>
          <a:prstGeom prst="hexagon">
            <a:avLst>
              <a:gd name="adj" fmla="val 28023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Hexagon 24"/>
          <p:cNvSpPr/>
          <p:nvPr/>
        </p:nvSpPr>
        <p:spPr>
          <a:xfrm rot="19767600">
            <a:off x="1593720" y="2610000"/>
            <a:ext cx="1440000" cy="1249200"/>
          </a:xfrm>
          <a:prstGeom prst="hexagon">
            <a:avLst>
              <a:gd name="adj" fmla="val 28023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8"/>
          <p:cNvSpPr/>
          <p:nvPr/>
        </p:nvSpPr>
        <p:spPr>
          <a:xfrm>
            <a:off x="3886200" y="1442880"/>
            <a:ext cx="5267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rovid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indica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 that focus on Next Generation student needs.  Complex performance and engaged learning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Demonstrate the assessment of the kinds o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complex student perform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 all students can achi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Give leader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nalytic capacit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requir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9"/>
          <p:cNvSpPr/>
          <p:nvPr/>
        </p:nvSpPr>
        <p:spPr>
          <a:xfrm>
            <a:off x="369720" y="399960"/>
            <a:ext cx="815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NxGL Diagnos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4"/>
          <p:cNvSpPr/>
          <p:nvPr/>
        </p:nvSpPr>
        <p:spPr>
          <a:xfrm>
            <a:off x="282600" y="298296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1038240" y="188424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6"/>
          <p:cNvSpPr/>
          <p:nvPr/>
        </p:nvSpPr>
        <p:spPr>
          <a:xfrm>
            <a:off x="1671480" y="301608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DU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rapezoid 31"/>
          <p:cNvSpPr/>
          <p:nvPr/>
        </p:nvSpPr>
        <p:spPr>
          <a:xfrm rot="15925800">
            <a:off x="2255040" y="-1777320"/>
            <a:ext cx="6848280" cy="8107200"/>
          </a:xfrm>
          <a:custGeom>
            <a:avLst/>
            <a:gdLst/>
            <a:ahLst/>
            <a:rect l="l" t="t" r="r" b="b"/>
            <a:pathLst>
              <a:path w="6848476" h="8107363">
                <a:moveTo>
                  <a:pt x="0" y="8107363"/>
                </a:moveTo>
                <a:lnTo>
                  <a:pt x="2992647" y="0"/>
                </a:lnTo>
                <a:lnTo>
                  <a:pt x="3855829" y="0"/>
                </a:lnTo>
                <a:lnTo>
                  <a:pt x="6848476" y="8107363"/>
                </a:lnTo>
                <a:lnTo>
                  <a:pt x="0" y="8107363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rapezoid 32"/>
          <p:cNvSpPr/>
          <p:nvPr/>
        </p:nvSpPr>
        <p:spPr>
          <a:xfrm rot="18345600">
            <a:off x="1907280" y="189360"/>
            <a:ext cx="6850080" cy="9642600"/>
          </a:xfrm>
          <a:custGeom>
            <a:avLst/>
            <a:gdLst/>
            <a:ahLst/>
            <a:rect l="l" t="t" r="r" b="b"/>
            <a:pathLst>
              <a:path w="6850062" h="9642475">
                <a:moveTo>
                  <a:pt x="0" y="9642475"/>
                </a:moveTo>
                <a:lnTo>
                  <a:pt x="2993340" y="0"/>
                </a:lnTo>
                <a:lnTo>
                  <a:pt x="3856722" y="0"/>
                </a:lnTo>
                <a:lnTo>
                  <a:pt x="6850062" y="9642475"/>
                </a:lnTo>
                <a:lnTo>
                  <a:pt x="0" y="9642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6183360" y="4356000"/>
            <a:ext cx="2755800" cy="2502000"/>
          </a:xfrm>
          <a:prstGeom prst="rect">
            <a:avLst/>
          </a:prstGeom>
          <a:solidFill>
            <a:srgbClr val="ec8a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6"/>
          <p:cNvSpPr/>
          <p:nvPr/>
        </p:nvSpPr>
        <p:spPr>
          <a:xfrm>
            <a:off x="3149640" y="4356000"/>
            <a:ext cx="2946240" cy="2502000"/>
          </a:xfrm>
          <a:prstGeom prst="rect">
            <a:avLst/>
          </a:prstGeom>
          <a:solidFill>
            <a:srgbClr val="ec8a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5"/>
          <p:cNvSpPr/>
          <p:nvPr/>
        </p:nvSpPr>
        <p:spPr>
          <a:xfrm>
            <a:off x="217440" y="4356000"/>
            <a:ext cx="2847960" cy="2502000"/>
          </a:xfrm>
          <a:prstGeom prst="rect">
            <a:avLst/>
          </a:prstGeom>
          <a:solidFill>
            <a:srgbClr val="ec8a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9"/>
          <p:cNvSpPr/>
          <p:nvPr/>
        </p:nvSpPr>
        <p:spPr>
          <a:xfrm>
            <a:off x="369720" y="399960"/>
            <a:ext cx="877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NxGL Diagnostics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401760" y="4740120"/>
            <a:ext cx="248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Effective measures of core knowledge and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2"/>
          <p:cNvSpPr/>
          <p:nvPr/>
        </p:nvSpPr>
        <p:spPr>
          <a:xfrm>
            <a:off x="3494160" y="4730760"/>
            <a:ext cx="230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Indicators of higher ord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3"/>
          <p:cNvSpPr/>
          <p:nvPr/>
        </p:nvSpPr>
        <p:spPr>
          <a:xfrm>
            <a:off x="6485040" y="4730760"/>
            <a:ext cx="254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Effective measures of genuine and persistent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390600" y="1392120"/>
            <a:ext cx="2546280" cy="2563920"/>
          </a:xfrm>
          <a:prstGeom prst="rect">
            <a:avLst/>
          </a:prstGeom>
          <a:ln w="0">
            <a:noFill/>
          </a:ln>
        </p:spPr>
      </p:pic>
      <p:sp>
        <p:nvSpPr>
          <p:cNvPr id="620" name="Hexagon 19"/>
          <p:cNvSpPr/>
          <p:nvPr/>
        </p:nvSpPr>
        <p:spPr>
          <a:xfrm rot="19767600">
            <a:off x="284040" y="2610000"/>
            <a:ext cx="1440000" cy="1249200"/>
          </a:xfrm>
          <a:prstGeom prst="hexagon">
            <a:avLst>
              <a:gd name="adj" fmla="val 28023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Hexagon 20"/>
          <p:cNvSpPr/>
          <p:nvPr/>
        </p:nvSpPr>
        <p:spPr>
          <a:xfrm rot="19767600">
            <a:off x="1593720" y="2610000"/>
            <a:ext cx="1440000" cy="1249200"/>
          </a:xfrm>
          <a:prstGeom prst="hexagon">
            <a:avLst>
              <a:gd name="adj" fmla="val 28023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22"/>
          <p:cNvSpPr/>
          <p:nvPr/>
        </p:nvSpPr>
        <p:spPr>
          <a:xfrm>
            <a:off x="1038240" y="188424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25"/>
          <p:cNvSpPr/>
          <p:nvPr/>
        </p:nvSpPr>
        <p:spPr>
          <a:xfrm>
            <a:off x="1671480" y="301608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DU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28"/>
          <p:cNvSpPr/>
          <p:nvPr/>
        </p:nvSpPr>
        <p:spPr>
          <a:xfrm>
            <a:off x="434880" y="4495680"/>
            <a:ext cx="126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29"/>
          <p:cNvSpPr/>
          <p:nvPr/>
        </p:nvSpPr>
        <p:spPr>
          <a:xfrm>
            <a:off x="3513240" y="4495680"/>
            <a:ext cx="12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30"/>
          <p:cNvSpPr/>
          <p:nvPr/>
        </p:nvSpPr>
        <p:spPr>
          <a:xfrm>
            <a:off x="6513480" y="4495680"/>
            <a:ext cx="126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23"/>
          <p:cNvSpPr/>
          <p:nvPr/>
        </p:nvSpPr>
        <p:spPr>
          <a:xfrm>
            <a:off x="282600" y="298296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1"/>
          <p:cNvSpPr/>
          <p:nvPr/>
        </p:nvSpPr>
        <p:spPr>
          <a:xfrm>
            <a:off x="0" y="5478480"/>
            <a:ext cx="9144000" cy="9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6"/>
          <p:cNvSpPr/>
          <p:nvPr/>
        </p:nvSpPr>
        <p:spPr>
          <a:xfrm>
            <a:off x="426960" y="368280"/>
            <a:ext cx="74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Typical R&amp;D Investments in Innovating S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9"/>
          <p:cNvSpPr/>
          <p:nvPr/>
        </p:nvSpPr>
        <p:spPr>
          <a:xfrm>
            <a:off x="426960" y="2065320"/>
            <a:ext cx="443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Pharma: 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	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	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	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1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Defense: 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	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	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	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Technology: 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	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	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  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0"/>
          <p:cNvSpPr/>
          <p:nvPr/>
        </p:nvSpPr>
        <p:spPr>
          <a:xfrm>
            <a:off x="4623480" y="560556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Arial"/>
              </a:rPr>
              <a:t>Education: 0.7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rapezoid 25"/>
          <p:cNvSpPr/>
          <p:nvPr/>
        </p:nvSpPr>
        <p:spPr>
          <a:xfrm rot="15925800">
            <a:off x="1693080" y="-1281600"/>
            <a:ext cx="6973920" cy="8382240"/>
          </a:xfrm>
          <a:custGeom>
            <a:avLst/>
            <a:gdLst/>
            <a:ahLst/>
            <a:rect l="l" t="t" r="r" b="b"/>
            <a:pathLst>
              <a:path w="6973888" h="8382000">
                <a:moveTo>
                  <a:pt x="0" y="8382000"/>
                </a:moveTo>
                <a:lnTo>
                  <a:pt x="3047450" y="0"/>
                </a:lnTo>
                <a:lnTo>
                  <a:pt x="3926438" y="0"/>
                </a:lnTo>
                <a:lnTo>
                  <a:pt x="6973888" y="8382000"/>
                </a:lnTo>
                <a:lnTo>
                  <a:pt x="0" y="83820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rapezoid 26"/>
          <p:cNvSpPr/>
          <p:nvPr/>
        </p:nvSpPr>
        <p:spPr>
          <a:xfrm rot="18345600">
            <a:off x="1407960" y="829080"/>
            <a:ext cx="6850080" cy="9970920"/>
          </a:xfrm>
          <a:custGeom>
            <a:avLst/>
            <a:gdLst/>
            <a:ahLst/>
            <a:rect l="l" t="t" r="r" b="b"/>
            <a:pathLst>
              <a:path w="6850062" h="9971088">
                <a:moveTo>
                  <a:pt x="0" y="9971088"/>
                </a:moveTo>
                <a:lnTo>
                  <a:pt x="2993340" y="0"/>
                </a:lnTo>
                <a:lnTo>
                  <a:pt x="3856722" y="0"/>
                </a:lnTo>
                <a:lnTo>
                  <a:pt x="6850062" y="9971088"/>
                </a:lnTo>
                <a:lnTo>
                  <a:pt x="0" y="9971088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390600" y="1392120"/>
            <a:ext cx="2546280" cy="2563920"/>
          </a:xfrm>
          <a:prstGeom prst="rect">
            <a:avLst/>
          </a:prstGeom>
          <a:ln w="0">
            <a:noFill/>
          </a:ln>
        </p:spPr>
      </p:pic>
      <p:sp>
        <p:nvSpPr>
          <p:cNvPr id="631" name="Hexagon 23"/>
          <p:cNvSpPr/>
          <p:nvPr/>
        </p:nvSpPr>
        <p:spPr>
          <a:xfrm rot="19767600">
            <a:off x="950760" y="1485720"/>
            <a:ext cx="1440000" cy="1250640"/>
          </a:xfrm>
          <a:prstGeom prst="hexagon">
            <a:avLst>
              <a:gd name="adj" fmla="val 28028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Hexagon 24"/>
          <p:cNvSpPr/>
          <p:nvPr/>
        </p:nvSpPr>
        <p:spPr>
          <a:xfrm rot="19767600">
            <a:off x="1593720" y="2610000"/>
            <a:ext cx="1440000" cy="1249200"/>
          </a:xfrm>
          <a:prstGeom prst="hexagon">
            <a:avLst>
              <a:gd name="adj" fmla="val 28023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3886200" y="1442880"/>
            <a:ext cx="397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Reliable, real-time measure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xG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tudent ow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9"/>
          <p:cNvSpPr/>
          <p:nvPr/>
        </p:nvSpPr>
        <p:spPr>
          <a:xfrm>
            <a:off x="369720" y="399960"/>
            <a:ext cx="815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NxGL Assess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1038240" y="188424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6"/>
          <p:cNvSpPr/>
          <p:nvPr/>
        </p:nvSpPr>
        <p:spPr>
          <a:xfrm>
            <a:off x="1671480" y="301608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DU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1"/>
          <p:cNvSpPr/>
          <p:nvPr/>
        </p:nvSpPr>
        <p:spPr>
          <a:xfrm>
            <a:off x="282600" y="298296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rapezoid 23"/>
          <p:cNvSpPr/>
          <p:nvPr/>
        </p:nvSpPr>
        <p:spPr>
          <a:xfrm rot="15925800">
            <a:off x="1693080" y="-1281600"/>
            <a:ext cx="6973920" cy="8382240"/>
          </a:xfrm>
          <a:custGeom>
            <a:avLst/>
            <a:gdLst/>
            <a:ahLst/>
            <a:rect l="l" t="t" r="r" b="b"/>
            <a:pathLst>
              <a:path w="6973888" h="8382000">
                <a:moveTo>
                  <a:pt x="0" y="8382000"/>
                </a:moveTo>
                <a:lnTo>
                  <a:pt x="3047450" y="0"/>
                </a:lnTo>
                <a:lnTo>
                  <a:pt x="3926438" y="0"/>
                </a:lnTo>
                <a:lnTo>
                  <a:pt x="6973888" y="8382000"/>
                </a:lnTo>
                <a:lnTo>
                  <a:pt x="0" y="83820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rapezoid 24"/>
          <p:cNvSpPr/>
          <p:nvPr/>
        </p:nvSpPr>
        <p:spPr>
          <a:xfrm rot="18345600">
            <a:off x="1407960" y="829080"/>
            <a:ext cx="6850080" cy="9970920"/>
          </a:xfrm>
          <a:custGeom>
            <a:avLst/>
            <a:gdLst/>
            <a:ahLst/>
            <a:rect l="l" t="t" r="r" b="b"/>
            <a:pathLst>
              <a:path w="6850062" h="9971088">
                <a:moveTo>
                  <a:pt x="0" y="9971088"/>
                </a:moveTo>
                <a:lnTo>
                  <a:pt x="2993340" y="0"/>
                </a:lnTo>
                <a:lnTo>
                  <a:pt x="3856722" y="0"/>
                </a:lnTo>
                <a:lnTo>
                  <a:pt x="6850062" y="9971088"/>
                </a:lnTo>
                <a:lnTo>
                  <a:pt x="0" y="9971088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7"/>
          <p:cNvSpPr/>
          <p:nvPr/>
        </p:nvSpPr>
        <p:spPr>
          <a:xfrm>
            <a:off x="3819600" y="4006800"/>
            <a:ext cx="4811760" cy="2851200"/>
          </a:xfrm>
          <a:prstGeom prst="rect">
            <a:avLst/>
          </a:prstGeom>
          <a:solidFill>
            <a:srgbClr val="ec8a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5"/>
          <p:cNvSpPr/>
          <p:nvPr/>
        </p:nvSpPr>
        <p:spPr>
          <a:xfrm>
            <a:off x="3828960" y="1454040"/>
            <a:ext cx="4802400" cy="2502000"/>
          </a:xfrm>
          <a:prstGeom prst="rect">
            <a:avLst/>
          </a:prstGeom>
          <a:solidFill>
            <a:srgbClr val="ec8a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9"/>
          <p:cNvSpPr/>
          <p:nvPr/>
        </p:nvSpPr>
        <p:spPr>
          <a:xfrm>
            <a:off x="369720" y="399960"/>
            <a:ext cx="877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NxGL Assessment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4017960" y="1798560"/>
            <a:ext cx="407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ortfolio-based performance/production assessm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hat demonstrate mastery of complex knowledge/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3"/>
          <p:cNvSpPr/>
          <p:nvPr/>
        </p:nvSpPr>
        <p:spPr>
          <a:xfrm>
            <a:off x="4022640" y="4311720"/>
            <a:ext cx="4222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New ways of gaining credi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for successful tasks undertaken inside and outside of school, thereby opening up alternative uses of time an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390600" y="1392120"/>
            <a:ext cx="2546280" cy="2563920"/>
          </a:xfrm>
          <a:prstGeom prst="rect">
            <a:avLst/>
          </a:prstGeom>
          <a:ln w="0">
            <a:noFill/>
          </a:ln>
        </p:spPr>
      </p:pic>
      <p:sp>
        <p:nvSpPr>
          <p:cNvPr id="646" name="Hexagon 19"/>
          <p:cNvSpPr/>
          <p:nvPr/>
        </p:nvSpPr>
        <p:spPr>
          <a:xfrm rot="19767600">
            <a:off x="950760" y="1485720"/>
            <a:ext cx="1440000" cy="1250640"/>
          </a:xfrm>
          <a:prstGeom prst="hexagon">
            <a:avLst>
              <a:gd name="adj" fmla="val 28028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Hexagon 20"/>
          <p:cNvSpPr/>
          <p:nvPr/>
        </p:nvSpPr>
        <p:spPr>
          <a:xfrm rot="19767600">
            <a:off x="1593720" y="2610000"/>
            <a:ext cx="1440000" cy="1249200"/>
          </a:xfrm>
          <a:prstGeom prst="hexagon">
            <a:avLst>
              <a:gd name="adj" fmla="val 28023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21"/>
          <p:cNvSpPr/>
          <p:nvPr/>
        </p:nvSpPr>
        <p:spPr>
          <a:xfrm>
            <a:off x="390600" y="2982960"/>
            <a:ext cx="126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22"/>
          <p:cNvSpPr/>
          <p:nvPr/>
        </p:nvSpPr>
        <p:spPr>
          <a:xfrm>
            <a:off x="1038240" y="188424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25"/>
          <p:cNvSpPr/>
          <p:nvPr/>
        </p:nvSpPr>
        <p:spPr>
          <a:xfrm>
            <a:off x="1671480" y="301608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DU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28"/>
          <p:cNvSpPr/>
          <p:nvPr/>
        </p:nvSpPr>
        <p:spPr>
          <a:xfrm>
            <a:off x="4016520" y="1558800"/>
            <a:ext cx="12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30"/>
          <p:cNvSpPr/>
          <p:nvPr/>
        </p:nvSpPr>
        <p:spPr>
          <a:xfrm>
            <a:off x="4024440" y="4084560"/>
            <a:ext cx="15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rapezoid 25"/>
          <p:cNvSpPr/>
          <p:nvPr/>
        </p:nvSpPr>
        <p:spPr>
          <a:xfrm rot="15925800">
            <a:off x="2483280" y="-1404360"/>
            <a:ext cx="6975720" cy="8383680"/>
          </a:xfrm>
          <a:custGeom>
            <a:avLst/>
            <a:gdLst/>
            <a:ahLst/>
            <a:rect l="l" t="t" r="r" b="b"/>
            <a:pathLst>
              <a:path w="6975476" h="8383587">
                <a:moveTo>
                  <a:pt x="0" y="8383587"/>
                </a:moveTo>
                <a:lnTo>
                  <a:pt x="3048144" y="0"/>
                </a:lnTo>
                <a:lnTo>
                  <a:pt x="3927332" y="0"/>
                </a:lnTo>
                <a:lnTo>
                  <a:pt x="6975476" y="8383587"/>
                </a:lnTo>
                <a:lnTo>
                  <a:pt x="0" y="8383587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rapezoid 26"/>
          <p:cNvSpPr/>
          <p:nvPr/>
        </p:nvSpPr>
        <p:spPr>
          <a:xfrm rot="18345600">
            <a:off x="2200680" y="706680"/>
            <a:ext cx="6848640" cy="9971280"/>
          </a:xfrm>
          <a:custGeom>
            <a:avLst/>
            <a:gdLst/>
            <a:ahLst/>
            <a:rect l="l" t="t" r="r" b="b"/>
            <a:pathLst>
              <a:path w="6848475" h="9971087">
                <a:moveTo>
                  <a:pt x="0" y="9971087"/>
                </a:moveTo>
                <a:lnTo>
                  <a:pt x="2992647" y="0"/>
                </a:lnTo>
                <a:lnTo>
                  <a:pt x="3855828" y="0"/>
                </a:lnTo>
                <a:lnTo>
                  <a:pt x="6848475" y="9971087"/>
                </a:lnTo>
                <a:lnTo>
                  <a:pt x="0" y="9971087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1"/>
          <a:stretch/>
        </p:blipFill>
        <p:spPr>
          <a:xfrm>
            <a:off x="390600" y="1392120"/>
            <a:ext cx="2546280" cy="2563920"/>
          </a:xfrm>
          <a:prstGeom prst="rect">
            <a:avLst/>
          </a:prstGeom>
          <a:ln w="0">
            <a:noFill/>
          </a:ln>
        </p:spPr>
      </p:pic>
      <p:sp>
        <p:nvSpPr>
          <p:cNvPr id="656" name="Hexagon 23"/>
          <p:cNvSpPr/>
          <p:nvPr/>
        </p:nvSpPr>
        <p:spPr>
          <a:xfrm rot="19767600">
            <a:off x="950760" y="1485720"/>
            <a:ext cx="1440000" cy="1250640"/>
          </a:xfrm>
          <a:prstGeom prst="hexagon">
            <a:avLst>
              <a:gd name="adj" fmla="val 28028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Hexagon 24"/>
          <p:cNvSpPr/>
          <p:nvPr/>
        </p:nvSpPr>
        <p:spPr>
          <a:xfrm rot="19767600">
            <a:off x="298440" y="2625840"/>
            <a:ext cx="1440000" cy="1249200"/>
          </a:xfrm>
          <a:prstGeom prst="hexagon">
            <a:avLst>
              <a:gd name="adj" fmla="val 28023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8"/>
          <p:cNvSpPr/>
          <p:nvPr/>
        </p:nvSpPr>
        <p:spPr>
          <a:xfrm>
            <a:off x="3886200" y="1708200"/>
            <a:ext cx="428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ommitment to person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Reframe the single-teacher mod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of learning to differentiated roles for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9"/>
          <p:cNvSpPr/>
          <p:nvPr/>
        </p:nvSpPr>
        <p:spPr>
          <a:xfrm>
            <a:off x="369720" y="399960"/>
            <a:ext cx="815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NxGL Educator Capa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1038240" y="188424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6"/>
          <p:cNvSpPr/>
          <p:nvPr/>
        </p:nvSpPr>
        <p:spPr>
          <a:xfrm>
            <a:off x="1671480" y="301608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DU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1"/>
          <p:cNvSpPr/>
          <p:nvPr/>
        </p:nvSpPr>
        <p:spPr>
          <a:xfrm>
            <a:off x="282600" y="298296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639800" y="396720"/>
            <a:ext cx="5713560" cy="5753160"/>
          </a:xfrm>
          <a:prstGeom prst="rect">
            <a:avLst/>
          </a:prstGeom>
          <a:ln w="0">
            <a:noFill/>
          </a:ln>
        </p:spPr>
      </p:pic>
      <p:sp>
        <p:nvSpPr>
          <p:cNvPr id="665" name="TextBox 13"/>
          <p:cNvSpPr/>
          <p:nvPr/>
        </p:nvSpPr>
        <p:spPr>
          <a:xfrm>
            <a:off x="1639800" y="4040280"/>
            <a:ext cx="28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NxGL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ASSESS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4"/>
          <p:cNvSpPr/>
          <p:nvPr/>
        </p:nvSpPr>
        <p:spPr>
          <a:xfrm>
            <a:off x="3111480" y="1565280"/>
            <a:ext cx="283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NxG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DIAGNOST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5"/>
          <p:cNvSpPr/>
          <p:nvPr/>
        </p:nvSpPr>
        <p:spPr>
          <a:xfrm>
            <a:off x="4619520" y="4040280"/>
            <a:ext cx="27338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EDUCA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4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25"/>
          <p:cNvSpPr/>
          <p:nvPr/>
        </p:nvSpPr>
        <p:spPr>
          <a:xfrm>
            <a:off x="2662200" y="2739960"/>
            <a:ext cx="1971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665280" y="1622520"/>
            <a:ext cx="1971720" cy="11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2662200" y="1622520"/>
            <a:ext cx="1971720" cy="11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4660920" y="1622520"/>
            <a:ext cx="1969920" cy="1117440"/>
          </a:xfrm>
          <a:prstGeom prst="rect">
            <a:avLst/>
          </a:prstGeom>
          <a:solidFill>
            <a:srgbClr val="264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6657840" y="1622520"/>
            <a:ext cx="1971720" cy="11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32"/>
          <p:cNvSpPr/>
          <p:nvPr/>
        </p:nvSpPr>
        <p:spPr>
          <a:xfrm>
            <a:off x="879480" y="1916280"/>
            <a:ext cx="148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SCA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Nx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33"/>
          <p:cNvSpPr/>
          <p:nvPr/>
        </p:nvSpPr>
        <p:spPr>
          <a:xfrm>
            <a:off x="2981160" y="1916280"/>
            <a:ext cx="126216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ENTR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굴림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34"/>
          <p:cNvSpPr/>
          <p:nvPr/>
        </p:nvSpPr>
        <p:spPr>
          <a:xfrm>
            <a:off x="4660920" y="1916280"/>
            <a:ext cx="1957320" cy="580680"/>
          </a:xfrm>
          <a:prstGeom prst="rect">
            <a:avLst/>
          </a:prstGeom>
          <a:solidFill>
            <a:srgbClr val="264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RAPID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ROTO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36"/>
          <p:cNvSpPr/>
          <p:nvPr/>
        </p:nvSpPr>
        <p:spPr>
          <a:xfrm>
            <a:off x="6657840" y="1916280"/>
            <a:ext cx="197172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CRE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6"/>
          <p:cNvSpPr/>
          <p:nvPr/>
        </p:nvSpPr>
        <p:spPr>
          <a:xfrm>
            <a:off x="4660920" y="2739960"/>
            <a:ext cx="19699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1"/>
          <p:cNvSpPr/>
          <p:nvPr/>
        </p:nvSpPr>
        <p:spPr>
          <a:xfrm>
            <a:off x="6657840" y="2739960"/>
            <a:ext cx="1971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9"/>
          <p:cNvSpPr/>
          <p:nvPr/>
        </p:nvSpPr>
        <p:spPr>
          <a:xfrm>
            <a:off x="665280" y="2739960"/>
            <a:ext cx="1971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4" descr=""/>
          <p:cNvPicPr/>
          <p:nvPr/>
        </p:nvPicPr>
        <p:blipFill>
          <a:blip r:embed="rId1"/>
          <a:stretch/>
        </p:blipFill>
        <p:spPr>
          <a:xfrm>
            <a:off x="762120" y="3235320"/>
            <a:ext cx="1739880" cy="11509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2" descr=""/>
          <p:cNvPicPr/>
          <p:nvPr/>
        </p:nvPicPr>
        <p:blipFill>
          <a:blip r:embed="rId2"/>
          <a:stretch/>
        </p:blipFill>
        <p:spPr>
          <a:xfrm>
            <a:off x="2855880" y="2916360"/>
            <a:ext cx="1590840" cy="160164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 txBox="1"/>
          <p:nvPr/>
        </p:nvSpPr>
        <p:spPr>
          <a:xfrm>
            <a:off x="577440" y="222120"/>
            <a:ext cx="82090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RAPID PROTOTY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4" descr=""/>
          <p:cNvPicPr/>
          <p:nvPr/>
        </p:nvPicPr>
        <p:blipFill>
          <a:blip r:embed="rId3"/>
          <a:stretch/>
        </p:blipFill>
        <p:spPr>
          <a:xfrm>
            <a:off x="6802560" y="2944800"/>
            <a:ext cx="1690560" cy="16016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2" descr=""/>
          <p:cNvPicPr/>
          <p:nvPr/>
        </p:nvPicPr>
        <p:blipFill>
          <a:blip r:embed="rId4"/>
          <a:stretch/>
        </p:blipFill>
        <p:spPr>
          <a:xfrm>
            <a:off x="4778280" y="2894040"/>
            <a:ext cx="173520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Box 4"/>
          <p:cNvSpPr/>
          <p:nvPr/>
        </p:nvSpPr>
        <p:spPr>
          <a:xfrm>
            <a:off x="3962520" y="14684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ate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2" descr=""/>
          <p:cNvPicPr/>
          <p:nvPr/>
        </p:nvPicPr>
        <p:blipFill>
          <a:blip r:embed="rId1"/>
          <a:stretch/>
        </p:blipFill>
        <p:spPr>
          <a:xfrm>
            <a:off x="1944720" y="1055520"/>
            <a:ext cx="5254560" cy="4683240"/>
          </a:xfrm>
          <a:prstGeom prst="rect">
            <a:avLst/>
          </a:prstGeom>
          <a:ln w="0">
            <a:noFill/>
          </a:ln>
        </p:spPr>
      </p:pic>
      <p:sp>
        <p:nvSpPr>
          <p:cNvPr id="688" name="TextBox 13"/>
          <p:cNvSpPr/>
          <p:nvPr/>
        </p:nvSpPr>
        <p:spPr>
          <a:xfrm>
            <a:off x="6485040" y="1944720"/>
            <a:ext cx="32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2.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14"/>
          <p:cNvSpPr/>
          <p:nvPr/>
        </p:nvSpPr>
        <p:spPr>
          <a:xfrm>
            <a:off x="6173640" y="5187960"/>
            <a:ext cx="32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3. Impl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15"/>
          <p:cNvSpPr/>
          <p:nvPr/>
        </p:nvSpPr>
        <p:spPr>
          <a:xfrm>
            <a:off x="-127080" y="5187960"/>
            <a:ext cx="29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4. Sh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7"/>
          <p:cNvSpPr/>
          <p:nvPr/>
        </p:nvSpPr>
        <p:spPr>
          <a:xfrm>
            <a:off x="665280" y="1944720"/>
            <a:ext cx="32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1. Diagn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7"/>
          <p:cNvSpPr/>
          <p:nvPr/>
        </p:nvSpPr>
        <p:spPr>
          <a:xfrm>
            <a:off x="393840" y="260280"/>
            <a:ext cx="58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24-Week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770200" y="1601640"/>
            <a:ext cx="3525840" cy="3141720"/>
          </a:xfrm>
          <a:prstGeom prst="rect">
            <a:avLst/>
          </a:prstGeom>
          <a:ln w="0">
            <a:noFill/>
          </a:ln>
        </p:spPr>
      </p:pic>
      <p:sp>
        <p:nvSpPr>
          <p:cNvPr id="694" name="TextBox 3"/>
          <p:cNvSpPr/>
          <p:nvPr/>
        </p:nvSpPr>
        <p:spPr>
          <a:xfrm>
            <a:off x="341280" y="160164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Diagn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4"/>
          <p:cNvSpPr/>
          <p:nvPr/>
        </p:nvSpPr>
        <p:spPr>
          <a:xfrm>
            <a:off x="3246480" y="2728800"/>
            <a:ext cx="339840" cy="338400"/>
          </a:xfrm>
          <a:prstGeom prst="ellipse">
            <a:avLst/>
          </a:prstGeom>
          <a:solidFill>
            <a:srgbClr val="264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6"/>
          <p:cNvSpPr/>
          <p:nvPr/>
        </p:nvSpPr>
        <p:spPr>
          <a:xfrm>
            <a:off x="2770200" y="2433600"/>
            <a:ext cx="525600" cy="344520"/>
          </a:xfrm>
          <a:prstGeom prst="line">
            <a:avLst/>
          </a:prstGeom>
          <a:ln w="25560">
            <a:solidFill>
              <a:srgbClr val="264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7"/>
          <p:cNvSpPr/>
          <p:nvPr/>
        </p:nvSpPr>
        <p:spPr>
          <a:xfrm>
            <a:off x="5556240" y="160164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</a:rPr>
              <a:t>P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8"/>
          <p:cNvSpPr/>
          <p:nvPr/>
        </p:nvSpPr>
        <p:spPr>
          <a:xfrm>
            <a:off x="5556240" y="474336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</a:rPr>
              <a:t>Impl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9"/>
          <p:cNvSpPr/>
          <p:nvPr/>
        </p:nvSpPr>
        <p:spPr>
          <a:xfrm>
            <a:off x="341280" y="4743360"/>
            <a:ext cx="290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</a:rPr>
              <a:t>Sh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"/>
          <p:cNvPicPr/>
          <p:nvPr/>
        </p:nvPicPr>
        <p:blipFill>
          <a:blip r:embed="rId1"/>
          <a:stretch/>
        </p:blipFill>
        <p:spPr>
          <a:xfrm>
            <a:off x="2770200" y="1601640"/>
            <a:ext cx="3525840" cy="3141720"/>
          </a:xfrm>
          <a:prstGeom prst="rect">
            <a:avLst/>
          </a:prstGeom>
          <a:ln w="0">
            <a:noFill/>
          </a:ln>
        </p:spPr>
      </p:pic>
      <p:sp>
        <p:nvSpPr>
          <p:cNvPr id="701" name="TextBox 3"/>
          <p:cNvSpPr/>
          <p:nvPr/>
        </p:nvSpPr>
        <p:spPr>
          <a:xfrm>
            <a:off x="341280" y="160164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  <a:ea typeface="굴림"/>
              </a:rPr>
              <a:t>Diagn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4"/>
          <p:cNvSpPr/>
          <p:nvPr/>
        </p:nvSpPr>
        <p:spPr>
          <a:xfrm>
            <a:off x="5445000" y="2719440"/>
            <a:ext cx="339840" cy="338040"/>
          </a:xfrm>
          <a:prstGeom prst="ellipse">
            <a:avLst/>
          </a:prstGeom>
          <a:solidFill>
            <a:srgbClr val="264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6"/>
          <p:cNvSpPr/>
          <p:nvPr/>
        </p:nvSpPr>
        <p:spPr>
          <a:xfrm flipH="1">
            <a:off x="5733720" y="2424240"/>
            <a:ext cx="304920" cy="344520"/>
          </a:xfrm>
          <a:prstGeom prst="line">
            <a:avLst/>
          </a:prstGeom>
          <a:ln w="25560">
            <a:solidFill>
              <a:srgbClr val="264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5"/>
          <p:cNvSpPr/>
          <p:nvPr/>
        </p:nvSpPr>
        <p:spPr>
          <a:xfrm>
            <a:off x="5556240" y="160164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P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7"/>
          <p:cNvSpPr/>
          <p:nvPr/>
        </p:nvSpPr>
        <p:spPr>
          <a:xfrm>
            <a:off x="5556240" y="474336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  <a:ea typeface="굴림"/>
              </a:rPr>
              <a:t>Impl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8"/>
          <p:cNvSpPr/>
          <p:nvPr/>
        </p:nvSpPr>
        <p:spPr>
          <a:xfrm>
            <a:off x="341280" y="4743360"/>
            <a:ext cx="290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  <a:ea typeface="굴림"/>
              </a:rPr>
              <a:t>Sh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2770200" y="1601640"/>
            <a:ext cx="3525840" cy="3141720"/>
          </a:xfrm>
          <a:prstGeom prst="rect">
            <a:avLst/>
          </a:prstGeom>
          <a:ln w="0">
            <a:noFill/>
          </a:ln>
        </p:spPr>
      </p:pic>
      <p:sp>
        <p:nvSpPr>
          <p:cNvPr id="708" name="TextBox 3"/>
          <p:cNvSpPr/>
          <p:nvPr/>
        </p:nvSpPr>
        <p:spPr>
          <a:xfrm>
            <a:off x="341280" y="160164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  <a:ea typeface="굴림"/>
              </a:rPr>
              <a:t>Diagn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4"/>
          <p:cNvSpPr/>
          <p:nvPr/>
        </p:nvSpPr>
        <p:spPr>
          <a:xfrm>
            <a:off x="5445000" y="4046400"/>
            <a:ext cx="339840" cy="33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64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6"/>
          <p:cNvSpPr/>
          <p:nvPr/>
        </p:nvSpPr>
        <p:spPr>
          <a:xfrm flipH="1" flipV="1">
            <a:off x="5734080" y="4336560"/>
            <a:ext cx="450720" cy="328680"/>
          </a:xfrm>
          <a:prstGeom prst="line">
            <a:avLst/>
          </a:prstGeom>
          <a:ln w="25560">
            <a:solidFill>
              <a:srgbClr val="264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5"/>
          <p:cNvSpPr/>
          <p:nvPr/>
        </p:nvSpPr>
        <p:spPr>
          <a:xfrm>
            <a:off x="5556240" y="160164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  <a:ea typeface="굴림"/>
              </a:rPr>
              <a:t>P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7"/>
          <p:cNvSpPr/>
          <p:nvPr/>
        </p:nvSpPr>
        <p:spPr>
          <a:xfrm>
            <a:off x="5556240" y="474336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Impl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8"/>
          <p:cNvSpPr/>
          <p:nvPr/>
        </p:nvSpPr>
        <p:spPr>
          <a:xfrm>
            <a:off x="341280" y="4743360"/>
            <a:ext cx="290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  <a:ea typeface="굴림"/>
              </a:rPr>
              <a:t>Sh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2770200" y="1601640"/>
            <a:ext cx="3525840" cy="3141720"/>
          </a:xfrm>
          <a:prstGeom prst="rect">
            <a:avLst/>
          </a:prstGeom>
          <a:ln w="0">
            <a:noFill/>
          </a:ln>
        </p:spPr>
      </p:pic>
      <p:sp>
        <p:nvSpPr>
          <p:cNvPr id="715" name="TextBox 3"/>
          <p:cNvSpPr/>
          <p:nvPr/>
        </p:nvSpPr>
        <p:spPr>
          <a:xfrm>
            <a:off x="341280" y="160164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</a:rPr>
              <a:t>Diagn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4"/>
          <p:cNvSpPr/>
          <p:nvPr/>
        </p:nvSpPr>
        <p:spPr>
          <a:xfrm>
            <a:off x="3289320" y="4022640"/>
            <a:ext cx="339840" cy="339840"/>
          </a:xfrm>
          <a:prstGeom prst="ellipse">
            <a:avLst/>
          </a:prstGeom>
          <a:solidFill>
            <a:srgbClr val="264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5"/>
          <p:cNvSpPr/>
          <p:nvPr/>
        </p:nvSpPr>
        <p:spPr>
          <a:xfrm>
            <a:off x="5556240" y="160164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</a:rPr>
              <a:t>P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7"/>
          <p:cNvSpPr/>
          <p:nvPr/>
        </p:nvSpPr>
        <p:spPr>
          <a:xfrm>
            <a:off x="5556240" y="474336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</a:rPr>
              <a:t>Impl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8"/>
          <p:cNvSpPr/>
          <p:nvPr/>
        </p:nvSpPr>
        <p:spPr>
          <a:xfrm>
            <a:off x="341280" y="4743360"/>
            <a:ext cx="290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Sh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9"/>
          <p:cNvSpPr/>
          <p:nvPr/>
        </p:nvSpPr>
        <p:spPr>
          <a:xfrm flipV="1">
            <a:off x="3018600" y="4313160"/>
            <a:ext cx="320760" cy="371520"/>
          </a:xfrm>
          <a:prstGeom prst="line">
            <a:avLst/>
          </a:prstGeom>
          <a:ln w="25560">
            <a:solidFill>
              <a:srgbClr val="264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rcRect l="0" t="526" r="0" b="0"/>
          <a:stretch/>
        </p:blipFill>
        <p:spPr>
          <a:xfrm>
            <a:off x="1625760" y="14400"/>
            <a:ext cx="57942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4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662200" y="2739960"/>
            <a:ext cx="1971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665280" y="1622520"/>
            <a:ext cx="1971720" cy="11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2662200" y="1622520"/>
            <a:ext cx="1971720" cy="11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4660920" y="1622520"/>
            <a:ext cx="1969920" cy="11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6657840" y="1622520"/>
            <a:ext cx="1971720" cy="1117440"/>
          </a:xfrm>
          <a:prstGeom prst="rect">
            <a:avLst/>
          </a:prstGeom>
          <a:solidFill>
            <a:srgbClr val="264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32"/>
          <p:cNvSpPr/>
          <p:nvPr/>
        </p:nvSpPr>
        <p:spPr>
          <a:xfrm>
            <a:off x="879480" y="1916280"/>
            <a:ext cx="148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IONEERING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33"/>
          <p:cNvSpPr/>
          <p:nvPr/>
        </p:nvSpPr>
        <p:spPr>
          <a:xfrm>
            <a:off x="2981160" y="1916280"/>
            <a:ext cx="126216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ENTR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굴림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34"/>
          <p:cNvSpPr/>
          <p:nvPr/>
        </p:nvSpPr>
        <p:spPr>
          <a:xfrm>
            <a:off x="4660920" y="1916280"/>
            <a:ext cx="195732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RAPI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36"/>
          <p:cNvSpPr/>
          <p:nvPr/>
        </p:nvSpPr>
        <p:spPr>
          <a:xfrm>
            <a:off x="6657840" y="1916280"/>
            <a:ext cx="1971720" cy="580680"/>
          </a:xfrm>
          <a:prstGeom prst="rect">
            <a:avLst/>
          </a:prstGeom>
          <a:solidFill>
            <a:srgbClr val="264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CRE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26"/>
          <p:cNvSpPr/>
          <p:nvPr/>
        </p:nvSpPr>
        <p:spPr>
          <a:xfrm>
            <a:off x="4660920" y="2739960"/>
            <a:ext cx="19699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1"/>
          <p:cNvSpPr/>
          <p:nvPr/>
        </p:nvSpPr>
        <p:spPr>
          <a:xfrm>
            <a:off x="6657840" y="2739960"/>
            <a:ext cx="1971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9"/>
          <p:cNvSpPr/>
          <p:nvPr/>
        </p:nvSpPr>
        <p:spPr>
          <a:xfrm>
            <a:off x="665280" y="2739960"/>
            <a:ext cx="1971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4" descr=""/>
          <p:cNvPicPr/>
          <p:nvPr/>
        </p:nvPicPr>
        <p:blipFill>
          <a:blip r:embed="rId1"/>
          <a:stretch/>
        </p:blipFill>
        <p:spPr>
          <a:xfrm>
            <a:off x="762120" y="3235320"/>
            <a:ext cx="1739880" cy="11509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" descr=""/>
          <p:cNvPicPr/>
          <p:nvPr/>
        </p:nvPicPr>
        <p:blipFill>
          <a:blip r:embed="rId2"/>
          <a:stretch/>
        </p:blipFill>
        <p:spPr>
          <a:xfrm>
            <a:off x="2855880" y="2916360"/>
            <a:ext cx="1590840" cy="160164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 txBox="1"/>
          <p:nvPr/>
        </p:nvSpPr>
        <p:spPr>
          <a:xfrm>
            <a:off x="577440" y="222120"/>
            <a:ext cx="82090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CREATING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4" descr=""/>
          <p:cNvPicPr/>
          <p:nvPr/>
        </p:nvPicPr>
        <p:blipFill>
          <a:blip r:embed="rId3"/>
          <a:stretch/>
        </p:blipFill>
        <p:spPr>
          <a:xfrm>
            <a:off x="6802560" y="2944800"/>
            <a:ext cx="1690560" cy="160164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2" descr=""/>
          <p:cNvPicPr/>
          <p:nvPr/>
        </p:nvPicPr>
        <p:blipFill>
          <a:blip r:embed="rId4"/>
          <a:stretch/>
        </p:blipFill>
        <p:spPr>
          <a:xfrm>
            <a:off x="4778280" y="2894040"/>
            <a:ext cx="173520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3"/>
          <p:cNvSpPr/>
          <p:nvPr/>
        </p:nvSpPr>
        <p:spPr>
          <a:xfrm>
            <a:off x="0" y="1336680"/>
            <a:ext cx="9144000" cy="183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301680" y="38736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Partnership Innovation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Content Placeholder 2"/>
          <p:cNvSpPr/>
          <p:nvPr/>
        </p:nvSpPr>
        <p:spPr>
          <a:xfrm>
            <a:off x="4586400" y="1454040"/>
            <a:ext cx="1863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form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n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Content Placeholder 2"/>
          <p:cNvSpPr/>
          <p:nvPr/>
        </p:nvSpPr>
        <p:spPr>
          <a:xfrm>
            <a:off x="6624720" y="1454040"/>
            <a:ext cx="2057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nectivity and Advo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Content Placeholder 2"/>
          <p:cNvSpPr/>
          <p:nvPr/>
        </p:nvSpPr>
        <p:spPr>
          <a:xfrm>
            <a:off x="498600" y="1454040"/>
            <a:ext cx="203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xperts and Next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Content Placeholder 2"/>
          <p:cNvSpPr/>
          <p:nvPr/>
        </p:nvSpPr>
        <p:spPr>
          <a:xfrm>
            <a:off x="2706840" y="1454040"/>
            <a:ext cx="1706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nov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5" descr=""/>
          <p:cNvPicPr/>
          <p:nvPr/>
        </p:nvPicPr>
        <p:blipFill>
          <a:blip r:embed="rId1"/>
          <a:stretch/>
        </p:blipFill>
        <p:spPr>
          <a:xfrm>
            <a:off x="2035080" y="2340000"/>
            <a:ext cx="464040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4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5"/>
          <p:cNvSpPr/>
          <p:nvPr/>
        </p:nvSpPr>
        <p:spPr>
          <a:xfrm>
            <a:off x="2662200" y="2739960"/>
            <a:ext cx="1971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2"/>
          <p:cNvSpPr/>
          <p:nvPr/>
        </p:nvSpPr>
        <p:spPr>
          <a:xfrm>
            <a:off x="879480" y="1916280"/>
            <a:ext cx="148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SC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Nx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3"/>
          <p:cNvSpPr/>
          <p:nvPr/>
        </p:nvSpPr>
        <p:spPr>
          <a:xfrm>
            <a:off x="2981160" y="1916280"/>
            <a:ext cx="126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ENTR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굴림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4"/>
          <p:cNvSpPr/>
          <p:nvPr/>
        </p:nvSpPr>
        <p:spPr>
          <a:xfrm>
            <a:off x="4660920" y="1916280"/>
            <a:ext cx="195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RAPI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ROTO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36"/>
          <p:cNvSpPr/>
          <p:nvPr/>
        </p:nvSpPr>
        <p:spPr>
          <a:xfrm>
            <a:off x="6657840" y="1916280"/>
            <a:ext cx="197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CREA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6"/>
          <p:cNvSpPr/>
          <p:nvPr/>
        </p:nvSpPr>
        <p:spPr>
          <a:xfrm>
            <a:off x="4660920" y="2739960"/>
            <a:ext cx="19699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1"/>
          <p:cNvSpPr/>
          <p:nvPr/>
        </p:nvSpPr>
        <p:spPr>
          <a:xfrm>
            <a:off x="6657840" y="2739960"/>
            <a:ext cx="1971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" descr=""/>
          <p:cNvPicPr/>
          <p:nvPr/>
        </p:nvPicPr>
        <p:blipFill>
          <a:blip r:embed="rId1"/>
          <a:stretch/>
        </p:blipFill>
        <p:spPr>
          <a:xfrm>
            <a:off x="6824520" y="2949480"/>
            <a:ext cx="1724040" cy="16830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39"/>
          <p:cNvSpPr/>
          <p:nvPr/>
        </p:nvSpPr>
        <p:spPr>
          <a:xfrm>
            <a:off x="665280" y="2739960"/>
            <a:ext cx="1971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2"/>
          <a:stretch/>
        </p:blipFill>
        <p:spPr>
          <a:xfrm>
            <a:off x="762120" y="3235320"/>
            <a:ext cx="1739880" cy="1150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"/>
          <p:cNvPicPr/>
          <p:nvPr/>
        </p:nvPicPr>
        <p:blipFill>
          <a:blip r:embed="rId3"/>
          <a:stretch/>
        </p:blipFill>
        <p:spPr>
          <a:xfrm>
            <a:off x="2855880" y="2916360"/>
            <a:ext cx="1590840" cy="16016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577440" y="222120"/>
            <a:ext cx="82090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The method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4"/>
          <a:stretch/>
        </p:blipFill>
        <p:spPr>
          <a:xfrm>
            <a:off x="4778280" y="2894040"/>
            <a:ext cx="173520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7772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39840" y="339480"/>
            <a:ext cx="815184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굴림"/>
              </a:rPr>
              <a:t>Scaling NxGL:</a:t>
            </a:r>
            <a:br>
              <a:rPr sz="54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굴림"/>
              </a:rPr>
              <a:t>Pioneering Change for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굴림"/>
              </a:rPr>
              <a:t>Next Generation Learning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909720" y="2679840"/>
            <a:ext cx="695160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160" y="322200"/>
            <a:ext cx="4684680" cy="24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kkurat-Bold"/>
                <a:ea typeface="ＭＳ Ｐゴシック"/>
              </a:rPr>
              <a:t>Healthy System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kkurat-Bold"/>
                <a:ea typeface="ＭＳ Ｐゴシック"/>
              </a:rPr>
              <a:t>Re-Gener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2"/>
          <p:cNvSpPr/>
          <p:nvPr/>
        </p:nvSpPr>
        <p:spPr>
          <a:xfrm>
            <a:off x="-3659040" y="322200"/>
            <a:ext cx="2085840" cy="265428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gger Title Te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 rot="20400000">
            <a:off x="-128160" y="3792600"/>
            <a:ext cx="3857400" cy="1950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" descr=""/>
          <p:cNvPicPr/>
          <p:nvPr/>
        </p:nvPicPr>
        <p:blipFill>
          <a:blip r:embed="rId2"/>
          <a:stretch/>
        </p:blipFill>
        <p:spPr>
          <a:xfrm rot="20400000">
            <a:off x="2867040" y="2690640"/>
            <a:ext cx="3859200" cy="1952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" descr=""/>
          <p:cNvPicPr/>
          <p:nvPr/>
        </p:nvPicPr>
        <p:blipFill>
          <a:blip r:embed="rId3"/>
          <a:stretch/>
        </p:blipFill>
        <p:spPr>
          <a:xfrm rot="20400000">
            <a:off x="5872320" y="1585440"/>
            <a:ext cx="3857400" cy="20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160" y="322200"/>
            <a:ext cx="4684680" cy="24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kkurat-Bold"/>
                <a:ea typeface="ＭＳ Ｐゴシック"/>
              </a:rPr>
              <a:t>Educatio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kkurat-Bold"/>
                <a:ea typeface="ＭＳ Ｐゴシック"/>
              </a:rPr>
              <a:t>Does N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-3659040" y="322200"/>
            <a:ext cx="2085840" cy="265428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gger Title Te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-128520" y="3792600"/>
            <a:ext cx="3857400" cy="19508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"/>
          <p:cNvPicPr/>
          <p:nvPr/>
        </p:nvPicPr>
        <p:blipFill>
          <a:blip r:embed="rId2"/>
          <a:stretch/>
        </p:blipFill>
        <p:spPr>
          <a:xfrm>
            <a:off x="3056040" y="3792600"/>
            <a:ext cx="3859200" cy="19508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"/>
          <p:cNvPicPr/>
          <p:nvPr/>
        </p:nvPicPr>
        <p:blipFill>
          <a:blip r:embed="rId3"/>
          <a:stretch/>
        </p:blipFill>
        <p:spPr>
          <a:xfrm>
            <a:off x="6240600" y="3792600"/>
            <a:ext cx="3859200" cy="195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Sigmund_Curve_2.ai"/>
          <p:cNvPicPr/>
          <p:nvPr/>
        </p:nvPicPr>
        <p:blipFill>
          <a:blip r:embed="rId1"/>
          <a:stretch/>
        </p:blipFill>
        <p:spPr>
          <a:xfrm rot="21300000">
            <a:off x="-1321920" y="-1770120"/>
            <a:ext cx="15006600" cy="112554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굴림"/>
              </a:rPr>
              <a:t>Na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8"/>
          <p:cNvSpPr/>
          <p:nvPr/>
        </p:nvSpPr>
        <p:spPr>
          <a:xfrm>
            <a:off x="2514600" y="4645080"/>
            <a:ext cx="492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Identif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Pio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L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7" descr="Sigmund_Curve_3.ai"/>
          <p:cNvPicPr/>
          <p:nvPr/>
        </p:nvPicPr>
        <p:blipFill>
          <a:blip r:embed="rId1"/>
          <a:stretch/>
        </p:blipFill>
        <p:spPr>
          <a:xfrm rot="21300000">
            <a:off x="-905040" y="-1007640"/>
            <a:ext cx="11588760" cy="8691480"/>
          </a:xfrm>
          <a:prstGeom prst="rect">
            <a:avLst/>
          </a:prstGeom>
          <a:ln w="0">
            <a:noFill/>
          </a:ln>
        </p:spPr>
      </p:pic>
      <p:sp>
        <p:nvSpPr>
          <p:cNvPr id="540" name="TextBox 9"/>
          <p:cNvSpPr/>
          <p:nvPr/>
        </p:nvSpPr>
        <p:spPr>
          <a:xfrm>
            <a:off x="2266920" y="5003640"/>
            <a:ext cx="47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Create Network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Pioneering L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굴림"/>
              </a:rPr>
              <a:t>Connec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51:01Z</dcterms:created>
  <dc:creator>Richard Tyson</dc:creator>
  <dc:description/>
  <dc:language>en-US</dc:language>
  <cp:lastModifiedBy>xfddxsfrf'</cp:lastModifiedBy>
  <cp:lastPrinted>2010-10-13T13:35:01Z</cp:lastPrinted>
  <dcterms:modified xsi:type="dcterms:W3CDTF">2011-09-26T21:47:37Z</dcterms:modified>
  <cp:revision>113</cp:revision>
  <dc:subject/>
  <dc:title>Slide 1</dc:title>
</cp:coreProperties>
</file>